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6F9E-D30C-42B0-BA3A-E28A48411CF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0390-7D54-4158-8D29-AADD94C2AE4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1F72-6D7D-4E03-ADF4-6B4827862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E3A2-B56A-428F-B82D-1ACC49B82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6F2D-61BA-4F07-B22C-4C28C09B3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3190-EFDC-4C82-A011-405BEA2B5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F89A-660C-4328-9606-9FA808B9AD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22E6-F5BE-49B7-A63C-CF40C30BC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B1FF-ED84-4DA9-BC88-D4C2D1598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D1E0-AC37-4E3F-9F0D-E2FA9ACCB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1EC2-2C9B-419A-A094-5A82B9442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DFDD-8E10-47FF-92AC-D8ADA868B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06C0-3B88-464A-B448-231630BF0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DBE1-9732-4F40-8D4E-0EFEEC54E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3CBD-B38D-4B75-9B5D-6622A403AF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A734-3B6F-4034-BA2A-C537F26D0D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17E0-A91A-4C98-A1C1-27DEB7AF75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mple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following sample solutions and decide if they are a good solution (based on your group’s decision about what a good answer looks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347A-215E-451E-AA9E-0C13F1FBED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Different Le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Generaliz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catio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explore our sample solutions through this different lens.  Determine where the solutions fit using these frame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427-0DD5-4FE3-A443-E11581C1C2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eneralization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a picture or constructing a model to represent the situation to count the desired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the previous term or terms in the sequence to determine subsequent terms (Additive think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-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a portion as a unit to construct a larger unit by multiplying. There may or may not be an appropriate adjustment for over-or-undercoun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-and-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ing a rule without regard to why this rule might work. Usually this involves experimenting with various operations and numbers provided in the problem situ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ng an explicit rule that expresses the co-variation of two sets of data, based on information provided in the situation. An explicit rule can allow for the prediction of any term number in the patter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ustification Frame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3124080"/>
                <a:gridCol w="510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ific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0: No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s do not address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1: Appeal to external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is made to the correctness stated by some other individual or reference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2: Empirical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fication is provided through the correctness of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ul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3: Generic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uctive justification is expressed for a particular inst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4: Deductive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ity is given through a deductive argument that is independent of particular in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feel about these fram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se frameworks match your success crite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(frameworks/success criteria) is more beneficial for students?  tea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3DA0-6DBF-425A-A456-9A05A0B04B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2431-DE84-4240-B6CF-6985F891B1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r 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different representations of patterns and discover that different representations bring about different mathematical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erience creating learning goals, success criteria and consolidat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C38B-643F-4319-B3AF-7B710597D4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9EC3-268F-4B9B-B7DD-FD691AF182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E:\Beach Images\Landscapes (A - Ci)\Beach Scene 27.wmf"/>
          <p:cNvPicPr/>
          <p:nvPr/>
        </p:nvPicPr>
        <p:blipFill>
          <a:blip r:embed="rId2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ack to the mat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handout individ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with your table when everyone has fini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9A84-1060-4E42-A3E6-22D978BC98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9158-3FB6-44FB-9B98-EFCA8640D4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:\Beach Images\Beach &amp; Water (K - P)\Man with Toy Boat.wmf"/>
          <p:cNvPicPr/>
          <p:nvPr/>
        </p:nvPicPr>
        <p:blipFill>
          <a:blip r:embed="rId1"/>
          <a:stretch/>
        </p:blipFill>
        <p:spPr>
          <a:xfrm>
            <a:off x="2235240" y="2303640"/>
            <a:ext cx="4672080" cy="225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E:\Beach Images\Landscapes (A - Ci)\Beach Scene 27.wmf"/>
          <p:cNvPicPr/>
          <p:nvPr/>
        </p:nvPicPr>
        <p:blipFill>
          <a:blip r:embed="rId2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ard So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receiving a card which contains a representation of a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 is to find all the people that have a different representation of your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iscuss which representation you find the most clear and which ones you are the most/least comfortable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E419-FF0F-40C4-B5B1-E24A5241D2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our learning goal was for that 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we achiev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60DD-F60C-4F7F-9481-71B50837C7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E:\Beach Images\Beach &amp; Water (K - P)\Kayaking - No Paddle.wmf"/>
          <p:cNvPicPr/>
          <p:nvPr/>
        </p:nvPicPr>
        <p:blipFill>
          <a:blip r:embed="rId2"/>
          <a:stretch/>
        </p:blipFill>
        <p:spPr>
          <a:xfrm>
            <a:off x="4495680" y="2590920"/>
            <a:ext cx="265752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Table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how you would solve the problem on your own (3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 up and solve the problem in 2 different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63C0-439D-414F-A90C-E42A6D6E05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3962520" y="3886200"/>
            <a:ext cx="2882520" cy="1359000"/>
            <a:chOff x="3962520" y="3886200"/>
            <a:chExt cx="2882520" cy="1359000"/>
          </a:xfrm>
        </p:grpSpPr>
        <p:sp>
          <p:nvSpPr>
            <p:cNvPr id="71" name="AutoShape 17"/>
            <p:cNvSpPr/>
            <p:nvPr/>
          </p:nvSpPr>
          <p:spPr>
            <a:xfrm>
              <a:off x="4165560" y="4203720"/>
              <a:ext cx="1447560" cy="698400"/>
            </a:xfrm>
            <a:custGeom>
              <a:avLst/>
              <a:gdLst>
                <a:gd name="textAreaLeft" fmla="*/ 301320 w 1447560"/>
                <a:gd name="textAreaRight" fmla="*/ 1146240 w 1447560"/>
                <a:gd name="textAreaTop" fmla="*/ 145440 h 698400"/>
                <a:gd name="textAreaBottom" fmla="*/ 5529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8"/>
            <p:cNvSpPr/>
            <p:nvPr/>
          </p:nvSpPr>
          <p:spPr>
            <a:xfrm flipV="1">
              <a:off x="5245200" y="4203720"/>
              <a:ext cx="1447560" cy="698400"/>
            </a:xfrm>
            <a:custGeom>
              <a:avLst/>
              <a:gdLst>
                <a:gd name="textAreaLeft" fmla="*/ 301320 w 1447560"/>
                <a:gd name="textAreaRight" fmla="*/ 1146240 w 1447560"/>
                <a:gd name="textAreaTop" fmla="*/ 145440 h 698400"/>
                <a:gd name="textAreaBottom" fmla="*/ 5529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9"/>
            <p:cNvSpPr/>
            <p:nvPr/>
          </p:nvSpPr>
          <p:spPr>
            <a:xfrm>
              <a:off x="3962520" y="449568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0"/>
            <p:cNvSpPr/>
            <p:nvPr/>
          </p:nvSpPr>
          <p:spPr>
            <a:xfrm>
              <a:off x="4749840" y="4991040"/>
              <a:ext cx="21564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1"/>
            <p:cNvSpPr/>
            <p:nvPr/>
          </p:nvSpPr>
          <p:spPr>
            <a:xfrm>
              <a:off x="5524560" y="50166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2"/>
            <p:cNvSpPr/>
            <p:nvPr/>
          </p:nvSpPr>
          <p:spPr>
            <a:xfrm>
              <a:off x="6210360" y="5016600"/>
              <a:ext cx="2160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3"/>
            <p:cNvSpPr/>
            <p:nvPr/>
          </p:nvSpPr>
          <p:spPr>
            <a:xfrm>
              <a:off x="6629400" y="43686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4"/>
            <p:cNvSpPr/>
            <p:nvPr/>
          </p:nvSpPr>
          <p:spPr>
            <a:xfrm>
              <a:off x="4419720" y="39240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5"/>
            <p:cNvSpPr/>
            <p:nvPr/>
          </p:nvSpPr>
          <p:spPr>
            <a:xfrm>
              <a:off x="5092560" y="3911400"/>
              <a:ext cx="2160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6"/>
            <p:cNvSpPr/>
            <p:nvPr/>
          </p:nvSpPr>
          <p:spPr>
            <a:xfrm>
              <a:off x="5918400" y="3886200"/>
              <a:ext cx="21564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es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hart paper, deter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ectation(s) (Grade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47FC-DD08-4B5B-9BD4-D899733332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are you looking for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etermine what a good answer to the table problem would look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1018-E317-4248-86D7-6FD26E4664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etermine what a good consolidating question would be to determine that your learning goal has been rea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34FB-97AF-4A87-ACF8-A255E23B2E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witc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chart papers with anothe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y similar? 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061B-1548-4B14-9638-9A1119A4E3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Erik Teather</cp:lastModifiedBy>
  <dcterms:modified xsi:type="dcterms:W3CDTF">2011-07-31T01:19:00Z</dcterms:modified>
  <cp:revision>36</cp:revision>
  <dc:subject/>
  <dc:title>&lt;Title&gt;</dc:title>
</cp:coreProperties>
</file>